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AAA-AE5C-45B4-8C76-F8E52593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CB4-8D7A-427F-86A9-5761BA7F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776-F929-4F8A-99E1-7A255AFD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D4C-26F5-4BA2-8E98-CFA83971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B63-3F18-47E8-9B72-1957D471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AE9-0D28-417D-B8AA-90DC3755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A44-C6E6-4BD8-B7C4-1D0B4DD8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7AF-7688-4CCA-AA17-62CAE157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F30-0FB6-487F-A8DC-A0893936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807-B070-4B17-AA1D-7B3883A2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34F-07FD-4656-8E20-63892684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024-5D98-42E6-92C1-0EEC48D5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84B6-EE98-4001-B03A-848DB39D7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3520" y="2133720"/>
            <a:ext cx="8280360" cy="65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候课要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保持安静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坐姿端正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3.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准备好学习用具                                                        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（课本，练习本，红笔，黑笔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预习第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元 第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课时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u=1627566408,1582199297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0" y="228240"/>
            <a:ext cx="9144000" cy="64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Arial"/>
                <a:ea typeface="楷体"/>
              </a:rPr>
              <a:t> </a:t>
            </a:r>
            <a:r>
              <a:rPr b="1" lang="zh-CN" sz="6000" spc="-1" strike="noStrike">
                <a:solidFill>
                  <a:srgbClr val="c00000"/>
                </a:solidFill>
                <a:latin typeface="Arial"/>
              </a:rPr>
              <a:t>讨论要求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针对迁移运用，以小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组为单位来讨论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组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注意讨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速度和效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要求：站姿端正，声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洪亮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时间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当堂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章大意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理解的做题技巧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240" y="1440"/>
            <a:ext cx="959796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宋体"/>
                <a:ea typeface="楷体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宋体"/>
                <a:ea typeface="楷体"/>
              </a:rPr>
              <a:t>       </a:t>
            </a:r>
            <a:r>
              <a:rPr b="0" lang="zh-CN" sz="6000" spc="-1" strike="noStrike">
                <a:solidFill>
                  <a:srgbClr val="ff0000"/>
                </a:solidFill>
                <a:latin typeface="宋体"/>
                <a:ea typeface="楷体"/>
              </a:rPr>
              <a:t>当堂检测要求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宋体"/>
                <a:ea typeface="楷体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桌面清理干净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不讨论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抄袭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书写规范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限时独立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真完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时间：</a:t>
            </a:r>
            <a:r>
              <a:rPr b="0" lang="en-US" sz="5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分钟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611280" y="189000"/>
            <a:ext cx="9144000" cy="74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nna: Hi , Jane. Where did you go on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vacation last wee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Jane: I _______ to Penang in 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na: Who ______ you go with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ane: I went with my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na: What di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2340000" y="263700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6357960" y="256536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alays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987640" y="321300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859280" y="364500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57120" y="214200"/>
            <a:ext cx="8501040" cy="69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Jane: The weather was hot and _______ 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nday, so we went ___________ on the b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en in the afternoon, we _______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icycle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eorgetow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na: Sounds gre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Jane: Well, but the next day was not </a:t>
            </a:r>
            <a:r>
              <a:rPr b="1" i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as good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. My _________ and I went to Penang Hill , but the weather _____really bad and rainy. We _________a long time for the train and we were _____ and cold because we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forgot to bring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5867280" y="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n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067280" y="76500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aragli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003640" y="1557360"/>
            <a:ext cx="2786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763640" y="357336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a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132000" y="400536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116000" y="443700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ai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050920" y="486900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2627280" y="522936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umbr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357120" y="214200"/>
            <a:ext cx="850104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nna: Oh, n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Jane: And that’s not all!  We also didn’t bring _______ money, so we only had one bowl of rice and some fis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3851280" y="206064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nou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0" y="0"/>
            <a:ext cx="9201240" cy="86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二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magine  Jane went to Penang again and had a great day.  Fill in the blanks in her diary entries with the correct forms of the verbs in brac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ursday , July 18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oday ______ (be)a beautiful day. My father and I _______ (go) to Pen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692360" y="314172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3708360" y="414972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w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0" y="189000"/>
            <a:ext cx="9429840" cy="10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ill again, but this time we_______(walk) to th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e ______ (start) at 9:30 a.m. and _______(see) 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f special Malaysian flowers along the way.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ne hour later, we ______(stop) and _______ (drin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ome tea.Then we ______ (walk) for another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w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ours before we _____ (get) to the top. I _____ (b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quite tired, and the city _______ (look) wonderful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top of the hi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643280" y="0"/>
            <a:ext cx="27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611280" y="76500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6156360" y="69228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059280" y="206064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stopp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6156360" y="220500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dr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3059280" y="285264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2987640" y="364500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g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6804000" y="357336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3924360" y="429264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loo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6017760" y="404640"/>
            <a:ext cx="2191320" cy="38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"/>
              </a:rPr>
              <a:t>激情小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952cf268ba70846a"/>
          <p:cNvPicPr/>
          <p:nvPr/>
        </p:nvPicPr>
        <p:blipFill>
          <a:blip r:embed="rId1"/>
          <a:stretch/>
        </p:blipFill>
        <p:spPr>
          <a:xfrm>
            <a:off x="324000" y="271440"/>
            <a:ext cx="6372000" cy="6586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677960" y="-449280"/>
            <a:ext cx="7466040" cy="55548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Thank you for listening</a:t>
            </a:r>
            <a:endParaRPr b="0" lang="en-US" sz="1800" spc="1" strike="noStrike">
              <a:ln w="9360">
                <a:solidFill>
                  <a:srgbClr val="99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3635280" y="620640"/>
            <a:ext cx="321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Unit 1   1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47640" y="134136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Where did you go on vac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38040" y="3232080"/>
            <a:ext cx="668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Learning aim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Can understand the main meaning of the passa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Can answer the questions correctly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0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了解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ok through the article and answer the questions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快速浏览文章，并回答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间：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i="1" lang="zh-CN" sz="4800" spc="-1" strike="noStrike">
                <a:solidFill>
                  <a:srgbClr val="000099"/>
                </a:solidFill>
                <a:latin typeface="Arial"/>
              </a:rPr>
              <a:t>You are the best !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24000" y="260280"/>
            <a:ext cx="8072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d Jane have a good time on Mon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What about Tues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 flipV="1" rot="10800000">
            <a:off x="684000" y="1557360"/>
            <a:ext cx="51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Yes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he di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971640" y="378936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t was terri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04640" y="1047600"/>
            <a:ext cx="3513240" cy="8251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Times New Roman"/>
              </a:rPr>
              <a:t>深入学习</a:t>
            </a:r>
            <a:r>
              <a:rPr b="0" lang="zh-CN" sz="3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44680" y="2373480"/>
            <a:ext cx="837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 the article again, finish the char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时间：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分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20047271121061117"/>
          <p:cNvPicPr/>
          <p:nvPr/>
        </p:nvPicPr>
        <p:blipFill>
          <a:blip r:embed="rId1"/>
          <a:stretch/>
        </p:blipFill>
        <p:spPr>
          <a:xfrm>
            <a:off x="372960" y="5799240"/>
            <a:ext cx="777240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990720"/>
          <a:ext cx="8329680" cy="5562360"/>
        </p:xfrm>
        <a:graphic>
          <a:graphicData uri="http://schemas.openxmlformats.org/drawingml/2006/table">
            <a:tbl>
              <a:tblPr/>
              <a:tblGrid>
                <a:gridCol w="2971800"/>
                <a:gridCol w="2438280"/>
                <a:gridCol w="2919600"/>
              </a:tblGrid>
              <a:tr h="199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ngs Jane did or s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she like it ?( Yes / No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 or why not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ed paraglid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were deliciou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73"/>
          <p:cNvSpPr/>
          <p:nvPr/>
        </p:nvSpPr>
        <p:spPr>
          <a:xfrm>
            <a:off x="5688000" y="3141720"/>
            <a:ext cx="34560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cause she fe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ke she was a bi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8"/>
          <p:cNvSpPr/>
          <p:nvPr/>
        </p:nvSpPr>
        <p:spPr>
          <a:xfrm>
            <a:off x="324000" y="0"/>
            <a:ext cx="9677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ad Jane’s diary entries again. Fill in the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3"/>
          <p:cNvSpPr/>
          <p:nvPr/>
        </p:nvSpPr>
        <p:spPr>
          <a:xfrm>
            <a:off x="4067280" y="3213000"/>
            <a:ext cx="3657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Ye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3"/>
          <p:cNvSpPr/>
          <p:nvPr/>
        </p:nvSpPr>
        <p:spPr>
          <a:xfrm>
            <a:off x="539640" y="479736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d Malaysian yellow noo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3"/>
          <p:cNvSpPr/>
          <p:nvPr/>
        </p:nvSpPr>
        <p:spPr>
          <a:xfrm>
            <a:off x="4191120" y="4952880"/>
            <a:ext cx="3657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Ye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04920" y="457200"/>
          <a:ext cx="8610480" cy="6248520"/>
        </p:xfrm>
        <a:graphic>
          <a:graphicData uri="http://schemas.openxmlformats.org/drawingml/2006/table">
            <a:tbl>
              <a:tblPr/>
              <a:tblGrid>
                <a:gridCol w="3581280"/>
                <a:gridCol w="1295640"/>
                <a:gridCol w="3733560"/>
              </a:tblGrid>
              <a:tr h="19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lked around Georgetow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nt to Penang Hill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tasted great because she was hungry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73"/>
          <p:cNvSpPr/>
          <p:nvPr/>
        </p:nvSpPr>
        <p:spPr>
          <a:xfrm>
            <a:off x="4114800" y="2971800"/>
            <a:ext cx="3657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3"/>
          <p:cNvSpPr/>
          <p:nvPr/>
        </p:nvSpPr>
        <p:spPr>
          <a:xfrm>
            <a:off x="3962520" y="914400"/>
            <a:ext cx="3657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Y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3"/>
          <p:cNvSpPr/>
          <p:nvPr/>
        </p:nvSpPr>
        <p:spPr>
          <a:xfrm>
            <a:off x="5424480" y="333360"/>
            <a:ext cx="3719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cause she could think the life there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3"/>
          <p:cNvSpPr/>
          <p:nvPr/>
        </p:nvSpPr>
        <p:spPr>
          <a:xfrm>
            <a:off x="5148360" y="2349360"/>
            <a:ext cx="3657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cause it’s raining and they didn’t take an umbr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3"/>
          <p:cNvSpPr/>
          <p:nvPr/>
        </p:nvSpPr>
        <p:spPr>
          <a:xfrm>
            <a:off x="395280" y="458136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d a bowl of rice and some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3"/>
          <p:cNvSpPr/>
          <p:nvPr/>
        </p:nvSpPr>
        <p:spPr>
          <a:xfrm>
            <a:off x="4067280" y="5229360"/>
            <a:ext cx="3657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Y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u=1627566408,1582199297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0" y="228240"/>
            <a:ext cx="9144000" cy="64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Arial"/>
                <a:ea typeface="楷体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Arial"/>
                <a:ea typeface="楷体"/>
              </a:rPr>
              <a:t>  </a:t>
            </a:r>
            <a:r>
              <a:rPr b="1" lang="zh-CN" sz="6000" spc="-1" strike="noStrike">
                <a:solidFill>
                  <a:srgbClr val="c00000"/>
                </a:solidFill>
                <a:latin typeface="Arial"/>
              </a:rPr>
              <a:t>迁移运用</a:t>
            </a:r>
            <a:r>
              <a:rPr b="1" lang="zh-CN" sz="6000" spc="-1" strike="noStrike">
                <a:solidFill>
                  <a:srgbClr val="c00000"/>
                </a:solidFill>
                <a:latin typeface="Arial"/>
                <a:ea typeface="楷体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请同学们认真完成迁移运用当中的题，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分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07:27:58Z</dcterms:created>
  <dc:creator>微软用户</dc:creator>
  <dc:description/>
  <dc:language>en-US</dc:language>
  <cp:lastModifiedBy>Administrator</cp:lastModifiedBy>
  <dcterms:modified xsi:type="dcterms:W3CDTF">2018-06-24T23:33:38Z</dcterms:modified>
  <cp:revision>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  <property fmtid="{D5CDD505-2E9C-101B-9397-08002B2CF9AE}" pid="3" name="NXTAG2">
    <vt:lpwstr>000800a208000000000001024120</vt:lpwstr>
  </property>
</Properties>
</file>